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408-BDEC-4487-B1AA-C2921F16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69F-E30C-49D1-8E79-25FC184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1B5-5192-4949-BC4E-505CEB0B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FC9-31A6-484E-AD16-B234B1ED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6FF0-BF24-40FF-A641-28095DAE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7A82-8411-404D-999C-2F2AB8D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F5D-FBC7-41D2-8F19-DA04ACA8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4DB9-F27F-487B-B650-F3C83C7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D63-C805-4479-87BB-038D93CF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D19D-8B53-4A46-A921-B3B20B8F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C430-1695-4959-95E4-E2A5FE6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CDD-920F-4E38-B953-9C8B792D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37AB-9110-425C-817D-CEB2B58C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4E63-F95D-4EE7-8EB3-6107C78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CE0F-6002-4356-8B4F-18092174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C63A-5E11-4AED-8CE7-6B03C572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3FED-6998-4C4F-8E7B-FE3796D5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B986-5C57-432C-A5FA-197467AC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DDBC2-68D9-4792-A7A9-CE0720AB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0292-48F1-405C-B6EB-3CCE4F69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3CD9-14B0-4874-A3FF-9DBFC73B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6DA5-D978-4F5E-B60B-137F068F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E8C-D30C-4845-8742-F086EE14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1916-892B-468C-95FC-0DCF7404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9783-86B0-48FB-9F6B-CEE0FF8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C2A3-DAE7-479B-8C7E-365E6AC9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A491-C8D3-4090-8B95-9E229E1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EDFC-08D1-4CD2-A281-AA0B91D3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7A4D-D9BC-483B-9E02-17083D92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F8CD-20C6-4C30-9369-4DF19040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6536-9121-4972-97F0-DAC2A92B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EBAC-44E7-4697-9CD0-3FF5DF4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E82E-3D5E-4BE5-BD20-7011EC22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B0A-55F3-4132-B16E-C65C37C9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A656-69A9-4314-AFD1-322474B1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914D-E9EF-4C16-96FB-F7C8B475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A5B1-F9FC-45B0-B3B2-F78859A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F58A-01D9-48B7-A864-02500DDE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2B3A8-CC49-4F7D-8E15-21E2783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0332-E13B-49F7-8880-D4B82B5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5CE8-2713-43C0-B65B-64A27B6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1753-2765-4E3B-854D-1C8E77D3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F72D-AD0D-4352-B27C-45AC37BE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9439-31B2-4C82-8EEF-1E2F7569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C32-CFCD-4C65-BC50-4FBD9802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2B6F-DCE0-480D-B6D6-A09491B8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A211-782F-4D5C-8606-9350E74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230B-C23F-46B9-BCA9-9BBF9B74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54EAF-8C44-432B-8680-5DEBD59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8039D-A04B-4B0F-8A7D-0968ADF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B003B-6383-4E87-A5F9-3F8B6B21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DCB87-841B-4E09-806A-7D6F433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4FF8-1D76-461E-9716-A57A2E5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E85A-0C0E-4568-B7C1-17C0D4C3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F28B-A18D-4438-B32A-5F48AE81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680"/>
            <a:ext cx="69343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2DE-33AD-4BCC-A1F3-A4C061E0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9716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41840" y="11430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5248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9716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41840" y="3745800"/>
            <a:ext cx="22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33A9-1750-4BF2-8DEE-737D19F9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706-2A41-41D4-9F0D-12BE250B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7458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069-7309-4616-AB58-AC9893A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143000"/>
            <a:ext cx="338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45800"/>
            <a:ext cx="6934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7D5-27A2-4AAF-A07F-FB0AE61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7422-B403-402E-8746-E81DAD0AA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682-1208-48C8-B46E-A8B7BB31A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DC1D-2EA9-462A-AEDA-52F95DEF8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2C7C-0961-4ADF-AEAF-09A056503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f293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1807-A9CD-44DF-ABD1-FD7EE3A00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office.microsoft.com/en-us/" TargetMode="External"/><Relationship Id="rId3" Type="http://schemas.openxmlformats.org/officeDocument/2006/relationships/hyperlink" Target="http://office.microsoft.com/en-us/" TargetMode="External"/><Relationship Id="rId4" Type="http://schemas.openxmlformats.org/officeDocument/2006/relationships/hyperlink" Target="http://office.microsoft.com/en-us/" TargetMode="External"/><Relationship Id="rId5" Type="http://schemas.openxmlformats.org/officeDocument/2006/relationships/hyperlink" Target="http://www.hgca.com/content.output/562/562/Food and Nutrition/Nutritional Information/Barley.mspx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09320" y="23623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f2936"/>
                </a:solidFill>
                <a:latin typeface="Times New Roman"/>
              </a:rPr>
              <a:t>The Language </a:t>
            </a:r>
            <a:br>
              <a:rPr sz="4800"/>
            </a:br>
            <a:r>
              <a:rPr b="1" lang="en-US" sz="4800" spc="-1" strike="noStrike">
                <a:solidFill>
                  <a:srgbClr val="9f2936"/>
                </a:solidFill>
                <a:latin typeface="Times New Roman"/>
              </a:rPr>
              <a:t>of Food</a:t>
            </a: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162920" y="3962520"/>
            <a:ext cx="3124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41b"/>
                </a:solidFill>
                <a:latin typeface="Times New Roman"/>
              </a:rPr>
              <a:t>Craciun Crina </a:t>
            </a:r>
            <a:endParaRPr b="0" lang="en-US" sz="1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Meat 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Most meat types in English have names of French origin. </a:t>
            </a:r>
            <a:br>
              <a:rPr sz="2800"/>
            </a:b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You’ll find the explanation in the text box on page 64</a:t>
            </a:r>
            <a:br>
              <a:rPr sz="2400"/>
            </a:b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3391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Meat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Beef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Veal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Mutton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Pork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Venison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hicken 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Fish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3760" y="2209320"/>
            <a:ext cx="33908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The animal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ow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alf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Sheep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Pig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Deer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Dairy products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These are products obtained from milk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Butter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Cheese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Yougurt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Cream</a:t>
            </a: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..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And now some 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Drinks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Non alcoholic drinks 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Coffee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Tea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Juice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Syrup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Alcoholic drinks 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Wine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Beer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Next time we’ll see 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How to express quantities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when we talk about food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(countable and uncountable nous)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f2936"/>
                </a:solidFill>
                <a:latin typeface="Times New Roman"/>
              </a:rPr>
              <a:t>Bibliography </a:t>
            </a:r>
            <a:endParaRPr b="0" lang="en-US" sz="28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office.microsoft.com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4"/>
              </a:rPr>
              <a:t>/en-us/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www.animationfactory.com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hlinkClick r:id="rId5"/>
              </a:rPr>
              <a:t>http://www.hgca.com/content.output/562/562/Food%20and%20Nutrition/Nutritional%20Information/Barley.mspx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b9f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b9f25"/>
                </a:solidFill>
                <a:uFillTx/>
                <a:latin typeface="Times New Roman"/>
              </a:rPr>
              <a:t>b2b.in.88db.com/.../ 1206-cattle-feed-exporter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Times New Roman"/>
              </a:rPr>
              <a:t>http://home.howstuffworks.com/corn3.htm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Words used to speak about food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There are several categories of food, such as: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Vegetable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Fruit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Cereal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Meat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Dairy Products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Drinks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0141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Processed / Cooked Food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(usually called </a:t>
            </a:r>
            <a:r>
              <a:rPr b="1" i="1" lang="en-US" sz="2400" spc="-1" strike="noStrike">
                <a:solidFill>
                  <a:srgbClr val="50141b"/>
                </a:solidFill>
                <a:latin typeface="Times New Roman"/>
              </a:rPr>
              <a:t>dishes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0141b"/>
                </a:solidFill>
                <a:latin typeface="Times New Roman"/>
              </a:rPr>
              <a:t>- in the next pps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itle 1"/>
          <p:cNvGrpSpPr/>
          <p:nvPr/>
        </p:nvGrpSpPr>
        <p:grpSpPr>
          <a:xfrm>
            <a:off x="2057400" y="380880"/>
            <a:ext cx="6632640" cy="838440"/>
            <a:chOff x="2057400" y="380880"/>
            <a:chExt cx="6632640" cy="838440"/>
          </a:xfrm>
        </p:grpSpPr>
        <p:pic>
          <p:nvPicPr>
            <p:cNvPr id="210" name="Title 1" descr=""/>
            <p:cNvPicPr/>
            <p:nvPr/>
          </p:nvPicPr>
          <p:blipFill>
            <a:blip r:embed="rId2"/>
            <a:stretch/>
          </p:blipFill>
          <p:spPr>
            <a:xfrm>
              <a:off x="2057400" y="380880"/>
              <a:ext cx="66326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33720" y="423000"/>
              <a:ext cx="647676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7ec234"/>
                  </a:solidFill>
                  <a:latin typeface="Century Gothic"/>
                </a:rPr>
                <a:t>Veggies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Subtitle 2"/>
          <p:cNvGrpSpPr/>
          <p:nvPr/>
        </p:nvGrpSpPr>
        <p:grpSpPr>
          <a:xfrm>
            <a:off x="1676520" y="1600200"/>
            <a:ext cx="7467120" cy="5028480"/>
            <a:chOff x="1676520" y="1600200"/>
            <a:chExt cx="7467120" cy="5028480"/>
          </a:xfrm>
        </p:grpSpPr>
        <p:pic>
          <p:nvPicPr>
            <p:cNvPr id="213" name="Subtitle 2" descr=""/>
            <p:cNvPicPr/>
            <p:nvPr/>
          </p:nvPicPr>
          <p:blipFill>
            <a:blip r:embed="rId3"/>
            <a:stretch/>
          </p:blipFill>
          <p:spPr>
            <a:xfrm>
              <a:off x="1676520" y="1600200"/>
              <a:ext cx="7467120" cy="50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66520" y="1801080"/>
              <a:ext cx="7283880" cy="46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otato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Gi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On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hallo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arsle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i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ele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Lettu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ushroo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Courget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Radis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Fe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Aspara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Pepp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Beet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Century Goth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895480" y="2438280"/>
            <a:ext cx="7146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2936"/>
                </a:solidFill>
                <a:latin typeface="Times New Roman"/>
              </a:rPr>
              <a:t>Name some more veggies</a:t>
            </a: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Fruits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91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Apricot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Pear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Plum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Watermelon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Melon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Fig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Date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Blueb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Raspb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95600" y="1143000"/>
            <a:ext cx="3390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Strawb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Peache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Ch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Sour cherri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Nectarine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Lim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Grapefruit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Grapes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Do you know any other fruits?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934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89548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2936"/>
                </a:solidFill>
                <a:latin typeface="Times New Roman"/>
              </a:rPr>
              <a:t>Now let’s see some </a:t>
            </a:r>
            <a:endParaRPr b="0" lang="en-US" sz="40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b9f25"/>
                </a:solidFill>
                <a:latin typeface="Rockwell Extra Bold"/>
              </a:rPr>
              <a:t>Cereals  </a:t>
            </a:r>
            <a:endParaRPr b="0" lang="en-US" sz="6000" spc="-1" strike="noStrike">
              <a:solidFill>
                <a:srgbClr val="9f29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Times New Roman"/>
              </a:rPr>
              <a:t>Cereals are very important in everyday meals</a:t>
            </a:r>
            <a:br>
              <a:rPr sz="4000"/>
            </a:br>
            <a:r>
              <a:rPr b="0" lang="en-US" sz="3600" spc="-1" strike="noStrike">
                <a:solidFill>
                  <a:srgbClr val="9f2936"/>
                </a:solidFill>
                <a:latin typeface="Times New Roman"/>
              </a:rPr>
              <a:t>Here are some common cereals:  </a:t>
            </a:r>
            <a:endParaRPr b="0" lang="en-US" sz="3600" spc="-1" strike="noStrike">
              <a:solidFill>
                <a:srgbClr val="9f293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87488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Wheat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Maize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Barley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Corn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f29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f2936"/>
                </a:solidFill>
                <a:latin typeface="Times New Roman"/>
              </a:rPr>
              <a:t>Rice </a:t>
            </a: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f293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67464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8766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0:17:12Z</dcterms:created>
  <dc:creator> craciun</dc:creator>
  <dc:description/>
  <cp:keywords/>
  <dc:language>en-US</dc:language>
  <cp:lastModifiedBy> craciun</cp:lastModifiedBy>
  <dcterms:modified xsi:type="dcterms:W3CDTF">2011-01-15T01:23:18Z</dcterms:modified>
  <cp:revision>3</cp:revision>
  <dc:subject/>
  <dc:title>The Language of Food </dc:title>
</cp:coreProperties>
</file>